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0B9-7E68-4504-9B28-AC588A34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814-A143-4633-BB94-F8489523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0B7-9F9F-4F6A-9F29-1AF2AE30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91C-F004-45AD-9473-DF81ECCA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95F2-C1F4-4677-9D80-586906E0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447E-FA03-4C3D-AEA5-D4742F78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1975-2161-4BA1-822E-B81EE7EB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3E34-56B6-46D8-A030-BB46FCC1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683C-9836-46A9-8DD1-444F1093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49EA-2B16-4BF4-9885-A88B4C5C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0D26-83B3-472C-A9A4-E36BB606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12C-02E8-4709-AB49-6B44C462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A415-9CA9-47D3-8A6E-2856C71D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2310-CB0C-4000-8BB8-96042B63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ABF9-D6C3-4F45-A1DF-85A07C99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2F2B-B22A-400C-9565-9CE53C2D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BE36-891C-4BED-AA68-870F1A6D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CCD7-86C9-4FF7-9F15-8CA5E125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9F63-CFFE-4DA1-BDD2-5409D3C8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7780C-C4BE-4AE8-840E-AAA81F3E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54A43-A75A-4123-AAA7-6C276D96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DDC39-95BA-4C5B-B2CA-84C0B5B7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5F0-FC22-40DC-B2ED-5073DCE4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B2173-EFE4-43D9-8B45-F7F29945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5D006-E7F8-4F88-BE86-AF486FD8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A3704-215C-4F6B-B393-4CD1351F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A78B-D848-4071-AB62-8291AF41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81F4-61F2-4D49-965D-24FF41D6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16109-FBB2-449D-B31D-1941A372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F3E34-9199-4595-940C-A4F48FB6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79104-09D6-489E-B15B-864304F8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2DC8F-4DCC-47E0-A525-3ECAB5E0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147A1-E873-40FB-B18F-268466FE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606-4FB3-427D-80DA-1A0F450E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34D2D-EE2F-4DB8-907A-C1E197AB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46A2C-136A-4CF6-B3ED-D603BD03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4E5BE-1616-4B14-BC78-1EF63550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2A0D9-A74C-4C56-9A69-E27DDF47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1B4B0-14D5-4F3C-B2DA-065C8B78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0D276-5730-49DA-8C42-2578361D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197E1-9B52-4B6F-82CA-58987352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8A778-D52B-4116-881D-CAF99323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7C1CE-8F35-4F1E-ABD0-D50B0FB7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3BA15-7105-4696-B20B-D342750D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0A9-CF5B-4A5A-8558-6D488BFE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A7BEE-6169-4A69-8B4F-3C46C75D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043F7-A0E5-4EC5-B060-C15B0958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546FA-158C-4F0F-AD6F-1894D450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33E25-E0EF-411E-AF5B-F75B49D0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63E6D-3BB8-4F82-8669-832CEED4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792F0-FE39-4369-9C76-9BE457C5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F0229-BBE9-4812-95F8-D0121185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DECD8-5B77-4020-8A19-F8B6BDDD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16ED4-7165-4F24-A591-0F38AB2D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61D28-2E55-48E2-AB1B-2517737E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5EB-7426-4C4F-8F16-9BD5EA68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4CDD4-908E-499E-B10E-D47A2926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4AE3D-75B5-417D-8090-610235B4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80281-2B38-4F55-8060-B5E9AEFC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F8353-3543-4292-AAC9-0D36C824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687C3-435D-418F-B689-72589508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397D2-3590-46B1-81D7-A801831C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FC696-536B-45ED-A0E9-7CBDF994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83BA2-4961-4259-B00D-5115F41B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8D062-2B6D-4B53-B96E-DC4C35AE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8C99F-5DA0-40CB-807F-092EEF0A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AF2-5898-46A8-8CAD-57B4BDDC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6F561-6DE8-4055-AD3B-F6117D49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1DC13-65BC-426B-964F-1377B3D1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FED7B-675E-448C-84FE-1A75A540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B29-D669-4A65-8E0B-D1376C5E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E9F-8B29-4133-979C-173F26DC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BDB3-2BFD-46C7-B46E-2E550E817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7D04-1CA9-40AA-9DBB-4C1D74B83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20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2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8317-1CAB-445F-B377-D3F074088F0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74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75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81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D1C6-9FA4-40EF-978F-FBDB43FDFD3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9B94-74C1-4871-AF0F-E73158D3D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79E0-8D67-43E2-BE68-17F125EA9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228600" y="533520"/>
            <a:ext cx="54100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alibri"/>
              </a:rPr>
              <a:t>SSVBB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095880" y="304920"/>
            <a:ext cx="228600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3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518148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Sans Unicode"/>
              </a:rPr>
              <a:t>Sammi, Riley, Jax, and Morg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Lucida Sans Unicode"/>
              </a:rPr>
              <a:t>Freshman Semin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 rot="574800">
            <a:off x="1447920" y="4495680"/>
            <a:ext cx="6476760" cy="1905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000000">
                    <a:alpha val="76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000000">
                    <a:alpha val="76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ngers with lead and chemical Cd</a:t>
            </a:r>
            <a:endParaRPr b="0" i="1" lang="en-US" sz="2400" spc="1" strike="noStrike">
              <a:ln w="9360">
                <a:solidFill>
                  <a:srgbClr val="66ccff"/>
                </a:solidFill>
                <a:miter/>
              </a:ln>
              <a:solidFill>
                <a:srgbClr val="000000">
                  <a:alpha val="76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542304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Unicode MS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</a:rPr>
              <a:t>nly on</a:t>
            </a:r>
            <a:r>
              <a:rPr b="0" lang="en-US" sz="3600" spc="-1" strike="noStrike">
                <a:solidFill>
                  <a:srgbClr val="003366"/>
                </a:solidFill>
                <a:latin typeface="Arial Unicode MS"/>
              </a:rPr>
              <a:t> SSVBB </a:t>
            </a:r>
            <a:r>
              <a:rPr b="0" lang="en-US" sz="1600" spc="-1" strike="noStrike">
                <a:solidFill>
                  <a:srgbClr val="003366"/>
                </a:solidFill>
                <a:latin typeface="Arial Unicode MS"/>
              </a:rPr>
              <a:t>channel 9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5257800"/>
            <a:ext cx="236232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5334120"/>
            <a:ext cx="1447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SSVBB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600200" y="5410080"/>
            <a:ext cx="68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4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286680" y="3276720"/>
            <a:ext cx="2857320" cy="35812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6248520" y="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3429000" y="3581280"/>
            <a:ext cx="2857680" cy="32767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914400" y="171360"/>
            <a:ext cx="1295280" cy="668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A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l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l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t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i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m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t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a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m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2:44:42Z</dcterms:created>
  <dc:creator>FSD</dc:creator>
  <dc:description/>
  <dc:language>en-US</dc:language>
  <cp:lastModifiedBy>FSD</cp:lastModifiedBy>
  <dcterms:modified xsi:type="dcterms:W3CDTF">2010-11-24T12:55:42Z</dcterms:modified>
  <cp:revision>2</cp:revision>
  <dc:subject/>
  <dc:title>Slide 1</dc:title>
</cp:coreProperties>
</file>